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thatsbetr.wav" ContentType="audio/x-wav"/>
  <Override PartName="/ppt/media/allwrong.wav" ContentType="audio/x-wav"/>
  <Override PartName="/ppt/media/image7.png" ContentType="image/png"/>
  <Override PartName="/ppt/media/image1.jpeg" ContentType="image/jpeg"/>
  <Override PartName="/ppt/media/image6.png" ContentType="image/png"/>
  <Override PartName="/ppt/media/rumble.wav" ContentType="audio/x-wav"/>
  <Override PartName="/ppt/media/image5.wmf" ContentType="image/x-wmf"/>
  <Override PartName="/ppt/media/image18.wmf" ContentType="image/x-wmf"/>
  <Override PartName="/ppt/media/alarmbuzzer.wav" ContentType="audio/x-wav"/>
  <Override PartName="/ppt/media/image4.jpeg" ContentType="image/jpeg"/>
  <Override PartName="/ppt/media/image2.png" ContentType="image/png"/>
  <Override PartName="/ppt/media/image17.png" ContentType="image/png"/>
  <Override PartName="/ppt/media/cashreg.wav" ContentType="audio/x-wav"/>
  <Override PartName="/ppt/media/image14.jpeg" ContentType="image/jpeg"/>
  <Override PartName="/ppt/media/hornturck..wav" ContentType="audio/x-wav"/>
  <Override PartName="/ppt/media/image16.wmf" ContentType="image/x-wmf"/>
  <Override PartName="/ppt/media/image15.png" ContentType="image/png"/>
  <Override PartName="/ppt/media/image13.jpeg" ContentType="image/jpeg"/>
  <Override PartName="/ppt/media/image12.wmf" ContentType="image/x-wmf"/>
  <Override PartName="/ppt/media/image11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087-6152-49E9-B1B3-059B6137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DE3-2567-4BBD-B744-E0522E21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031-7DDA-4DF6-AF39-7059FDF1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ED3-ADA5-401E-A843-75803CB8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825-13F0-44F4-A8B5-4653F6B4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B7AF-C417-4A37-82D6-341206B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9AC7-CB59-4DF2-B782-0FD311B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6055-49C0-4551-925C-1C6899F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3D70-FE37-4B50-9B71-4C8DFF96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91D5-6474-4B03-A6B1-9975E6E6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087-B381-4CB5-A22A-93AB494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66D-64CB-4748-B727-419F299C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D32D-69F1-4E6F-A76E-E0D2DBB8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F854-F855-4E4F-879F-CB07386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8D50-2298-48EE-A8CB-9A84AA26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4A6B-3388-4BFC-9CF8-3FDF25FE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08C9-46AD-4A02-AB7D-2935D71C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2F9-1425-4457-8184-1A6B5D69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62A-62EF-470E-BDA2-778D76B8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E0B-4DF6-4D80-A2AD-F052833B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141-2017-49F1-8CB8-2C31961C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CDF-53E3-4CFE-BB62-E2FEB52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E43-3FBB-43F2-B3FE-A528E0B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5C6-2BF5-4A3F-AB3D-4901316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0C6A-601D-48C7-997B-C38CAEF9D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FEB3-DD46-49BD-8CA9-94BBFBA69F8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alarmbuzz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umbl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hornturck.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thatsbet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Meaning Wor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Picture 4" descr="j0309615[1]"/>
          <p:cNvPicPr/>
          <p:nvPr/>
        </p:nvPicPr>
        <p:blipFill>
          <a:blip r:embed="rId1"/>
          <a:stretch/>
        </p:blipFill>
        <p:spPr>
          <a:xfrm>
            <a:off x="3886200" y="32004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. The peas were in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can do it by myself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help me do the dishe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om gave me a can of peanuts for the pa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30840" y="507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80040" y="43084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1914480" y="2400480"/>
            <a:ext cx="5315040" cy="2012760"/>
            <a:chOff x="1914480" y="2400480"/>
            <a:chExt cx="5315040" cy="2012760"/>
          </a:xfrm>
        </p:grpSpPr>
        <p:sp>
          <p:nvSpPr>
            <p:cNvPr id="128" name="Rectangle 7"/>
            <p:cNvSpPr/>
            <p:nvPr/>
          </p:nvSpPr>
          <p:spPr>
            <a:xfrm>
              <a:off x="1914480" y="2400480"/>
              <a:ext cx="531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1914480" y="2400480"/>
              <a:ext cx="53150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0" lang="en-US" sz="12600" spc="-1" strike="noStrike">
                  <a:solidFill>
                    <a:srgbClr val="eaeaea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0" name="Rectangle 11"/>
          <p:cNvSpPr/>
          <p:nvPr/>
        </p:nvSpPr>
        <p:spPr>
          <a:xfrm>
            <a:off x="1085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1" name="Group 17"/>
          <p:cNvGrpSpPr/>
          <p:nvPr/>
        </p:nvGrpSpPr>
        <p:grpSpPr>
          <a:xfrm>
            <a:off x="1085760" y="2567160"/>
            <a:ext cx="6972480" cy="1692000"/>
            <a:chOff x="1085760" y="2567160"/>
            <a:chExt cx="6972480" cy="1692000"/>
          </a:xfrm>
        </p:grpSpPr>
        <p:sp>
          <p:nvSpPr>
            <p:cNvPr id="132" name="Rectangle 12"/>
            <p:cNvSpPr/>
            <p:nvPr/>
          </p:nvSpPr>
          <p:spPr>
            <a:xfrm>
              <a:off x="1085760" y="2567160"/>
              <a:ext cx="6972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3" name="Group 16"/>
            <p:cNvGrpSpPr/>
            <p:nvPr/>
          </p:nvGrpSpPr>
          <p:grpSpPr>
            <a:xfrm>
              <a:off x="1085760" y="2567160"/>
              <a:ext cx="4572000" cy="1692000"/>
              <a:chOff x="1085760" y="2567160"/>
              <a:chExt cx="4572000" cy="1692000"/>
            </a:xfrm>
          </p:grpSpPr>
          <p:sp>
            <p:nvSpPr>
              <p:cNvPr id="134" name="Rectangle 13"/>
              <p:cNvSpPr/>
              <p:nvPr/>
            </p:nvSpPr>
            <p:spPr>
              <a:xfrm>
                <a:off x="1085760" y="2567160"/>
                <a:ext cx="457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Rectangle 14"/>
              <p:cNvSpPr/>
              <p:nvPr/>
            </p:nvSpPr>
            <p:spPr>
              <a:xfrm>
                <a:off x="1085760" y="2567160"/>
                <a:ext cx="4572000" cy="16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05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                               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6" name="Picture 15" descr="Canned Peas"/>
          <p:cNvPicPr/>
          <p:nvPr/>
        </p:nvPicPr>
        <p:blipFill>
          <a:blip r:embed="rId2"/>
          <a:srcRect l="13798" t="19707" r="47424" b="11396"/>
          <a:stretch/>
        </p:blipFill>
        <p:spPr>
          <a:xfrm>
            <a:off x="6996240" y="380880"/>
            <a:ext cx="1309680" cy="1798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ome_10"/>
          <p:cNvPicPr/>
          <p:nvPr/>
        </p:nvPicPr>
        <p:blipFill>
          <a:blip r:embed="rId3"/>
          <a:srcRect l="0" t="0" r="0" b="21114"/>
          <a:stretch/>
        </p:blipFill>
        <p:spPr>
          <a:xfrm>
            <a:off x="6324480" y="4343400"/>
            <a:ext cx="220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.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g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id do not en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Please sign your name on the pap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Can you sign the word ca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read the sign on the wall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954520" y="56800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5" descr="bd06663_"/>
          <p:cNvPicPr/>
          <p:nvPr/>
        </p:nvPicPr>
        <p:blipFill>
          <a:blip r:embed="rId2"/>
          <a:stretch/>
        </p:blipFill>
        <p:spPr>
          <a:xfrm>
            <a:off x="6324480" y="44956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. I have a new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atc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Did you watch me jump rop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watch is los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don't watch many television shows!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10716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5" descr="alarm6"/>
          <p:cNvPicPr/>
          <p:nvPr/>
        </p:nvPicPr>
        <p:blipFill>
          <a:blip r:embed="rId2"/>
          <a:stretch/>
        </p:blipFill>
        <p:spPr>
          <a:xfrm>
            <a:off x="6629400" y="4952880"/>
            <a:ext cx="17254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0. I always receive goo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ark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school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marks on my report card were great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My fingers left marks on the glas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have marks on my clothes where the milk spilled on them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412080" y="53751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5" descr="sy00451_"/>
          <p:cNvPicPr/>
          <p:nvPr/>
        </p:nvPicPr>
        <p:blipFill>
          <a:blip r:embed="rId2"/>
          <a:stretch/>
        </p:blipFill>
        <p:spPr>
          <a:xfrm>
            <a:off x="7162920" y="3962520"/>
            <a:ext cx="10332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ww.manatee.k12.fl.us/sites/elementary/palmasola/mmbb.ht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057040"/>
            <a:ext cx="7696080" cy="2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Multiple Meaning Words are words that have several meanings depending upon how they are used in a sentence.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869080" y="3581280"/>
            <a:ext cx="327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use CONTEXT CLUES t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us figure out which mea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corre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6" descr="j0124749[1]"/>
          <p:cNvPicPr/>
          <p:nvPr/>
        </p:nvPicPr>
        <p:blipFill>
          <a:blip r:embed="rId2"/>
          <a:stretch/>
        </p:blipFill>
        <p:spPr>
          <a:xfrm>
            <a:off x="0" y="3657600"/>
            <a:ext cx="56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t’s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the underlined word in each sentenc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sentence in which the word h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ame meaning as in the original sentence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63400" y="423540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She took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i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Florid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Be careful, or you will trip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We planned our trip togeth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I trip over things very ofte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6680" y="48006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6" descr="vacation"/>
          <p:cNvPicPr/>
          <p:nvPr/>
        </p:nvPicPr>
        <p:blipFill>
          <a:blip r:embed="rId2"/>
          <a:stretch/>
        </p:blipFill>
        <p:spPr>
          <a:xfrm>
            <a:off x="6324480" y="4419720"/>
            <a:ext cx="2468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turck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I turned on 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ligh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I could see bett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The feather was very ligh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She wore light colors because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was going to be a hot d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There is only one light in the living room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308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5" descr="lightbulb1"/>
          <p:cNvPicPr/>
          <p:nvPr/>
        </p:nvPicPr>
        <p:blipFill>
          <a:blip r:embed="rId2"/>
          <a:stretch/>
        </p:blipFill>
        <p:spPr>
          <a:xfrm>
            <a:off x="6553080" y="4419720"/>
            <a:ext cx="1806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. Will you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y answers for me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Mom wrote a check for the fieldtrip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I will check and see if the cat is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hous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If you get a check it means the answer is wron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30840" y="4994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7" descr="teacher1 copy"/>
          <p:cNvPicPr/>
          <p:nvPr/>
        </p:nvPicPr>
        <p:blipFill>
          <a:blip r:embed="rId2"/>
          <a:stretch/>
        </p:blipFill>
        <p:spPr>
          <a:xfrm>
            <a:off x="6172200" y="4000680"/>
            <a:ext cx="2971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lw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 Will you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h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me how to bake a pi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I want to show you my new to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went to the show with dad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television show is on tonigh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878560" y="507060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5" descr="piebaking"/>
          <p:cNvPicPr/>
          <p:nvPr/>
        </p:nvPicPr>
        <p:blipFill>
          <a:blip r:embed="rId2"/>
          <a:stretch/>
        </p:blipFill>
        <p:spPr>
          <a:xfrm>
            <a:off x="6324480" y="3981600"/>
            <a:ext cx="25909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 Mom put money into her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an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ccoun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A teller works at a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The river had a very high bank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59800" y="49179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7" descr="banking, bank teller"/>
          <p:cNvPicPr/>
          <p:nvPr/>
        </p:nvPicPr>
        <p:blipFill>
          <a:blip r:embed="rId2"/>
          <a:stretch/>
        </p:blipFill>
        <p:spPr>
          <a:xfrm>
            <a:off x="3759120" y="-431496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entrance to bank"/>
          <p:cNvPicPr/>
          <p:nvPr/>
        </p:nvPicPr>
        <p:blipFill>
          <a:blip r:embed="rId3"/>
          <a:stretch/>
        </p:blipFill>
        <p:spPr>
          <a:xfrm>
            <a:off x="3809880" y="-431496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pe01460_"/>
          <p:cNvPicPr/>
          <p:nvPr/>
        </p:nvPicPr>
        <p:blipFill>
          <a:blip r:embed="rId4"/>
          <a:stretch/>
        </p:blipFill>
        <p:spPr>
          <a:xfrm>
            <a:off x="6767640" y="3657600"/>
            <a:ext cx="237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. Mary likes to come to my house and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m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He starred in our class pla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I like to play checker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. My favorite play is "My Fair Lady."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59440" y="51465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rrect answer is 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Group 10"/>
          <p:cNvGrpSpPr/>
          <p:nvPr/>
        </p:nvGrpSpPr>
        <p:grpSpPr>
          <a:xfrm>
            <a:off x="1131840" y="3094200"/>
            <a:ext cx="6880320" cy="671400"/>
            <a:chOff x="1131840" y="3094200"/>
            <a:chExt cx="6880320" cy="671400"/>
          </a:xfrm>
        </p:grpSpPr>
        <p:sp>
          <p:nvSpPr>
            <p:cNvPr id="119" name="Rectangle 5"/>
            <p:cNvSpPr/>
            <p:nvPr/>
          </p:nvSpPr>
          <p:spPr>
            <a:xfrm>
              <a:off x="1131840" y="3094200"/>
              <a:ext cx="6880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0" name="Group 9"/>
            <p:cNvGrpSpPr/>
            <p:nvPr/>
          </p:nvGrpSpPr>
          <p:grpSpPr>
            <a:xfrm>
              <a:off x="1131840" y="3094200"/>
              <a:ext cx="6651720" cy="671400"/>
              <a:chOff x="1131840" y="3094200"/>
              <a:chExt cx="6651720" cy="671400"/>
            </a:xfrm>
          </p:grpSpPr>
          <p:sp>
            <p:nvSpPr>
              <p:cNvPr id="121" name="Rectangle 6"/>
              <p:cNvSpPr/>
              <p:nvPr/>
            </p:nvSpPr>
            <p:spPr>
              <a:xfrm>
                <a:off x="1131840" y="3094200"/>
                <a:ext cx="6651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Rectangle 7"/>
              <p:cNvSpPr/>
              <p:nvPr/>
            </p:nvSpPr>
            <p:spPr>
              <a:xfrm>
                <a:off x="1131840" y="3094200"/>
                <a:ext cx="665172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Verdana"/>
                  </a:rPr>
                  <a:t>  </a:t>
                </a:r>
                <a:r>
                  <a:rPr b="0" lang="en-US" sz="38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    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" name="Picture 8" descr="b_checker-chess_board"/>
          <p:cNvPicPr/>
          <p:nvPr/>
        </p:nvPicPr>
        <p:blipFill>
          <a:blip r:embed="rId2"/>
          <a:stretch/>
        </p:blipFill>
        <p:spPr>
          <a:xfrm>
            <a:off x="6477120" y="45720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atsbet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5:00:49Z</dcterms:created>
  <dc:creator>Jefferson County Schools</dc:creator>
  <dc:description/>
  <dc:language>en-US</dc:language>
  <cp:lastModifiedBy>teacher</cp:lastModifiedBy>
  <dcterms:modified xsi:type="dcterms:W3CDTF">2011-01-03T23:31:26Z</dcterms:modified>
  <cp:revision>12</cp:revision>
  <dc:subject/>
  <dc:title>Multiple Meaning Words</dc:title>
</cp:coreProperties>
</file>